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B5D-2323-40E1-8FAC-2D98F17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F46-4618-415E-8C89-127F269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563-CC5A-4741-916F-19B049BA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85D-A624-44BC-A147-E24FF001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0BE5-6538-40E6-8868-BE3483EF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73F33-A934-42B7-A975-FDCE3306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AC16D-F9FD-45BA-8978-1FF9F85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7AE8C-4E00-4477-AA44-F4B60A2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B8C4-BD5C-447A-86FF-5C60BCDA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1FC2D-53AC-43A5-A1B6-0FA0CB4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AEA4F-C7B7-4E8F-B72F-2573434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0D2-2353-485F-AC2A-865F184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69DB0-B807-4AA8-B58C-9A60566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BA633-29FF-4069-92BC-FD8CF3B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77B96-ACA6-4E1F-8AE4-828A548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C513B-2649-4519-B943-97ECC64C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19689-3E3C-4D64-9128-C153DE3A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5A4-2021-4E72-BF81-72E363DA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5A8-3E91-4F2F-81B4-B482128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A02-529D-4B59-977B-FD50A10F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9C8-C15B-4008-AE77-8A6DEE6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ACF-0D3B-4823-A8A2-F3ED7BD6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01C-F7EA-413A-9279-6C3DBD9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492-7C18-4AA3-9DF5-6189AB3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7C18-EE3C-47AE-89DA-DBC42CEC9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A8BC-7BC3-4856-9859-36DA3283C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eb.mit.edu/invent/iow/darby.html" TargetMode="Externa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43600" y="5029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: 1/7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28600"/>
            <a:ext cx="436248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nd surf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75960" cy="24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452916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648320" y="266688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Darby"/>
          <p:cNvPicPr/>
          <p:nvPr/>
        </p:nvPicPr>
        <p:blipFill>
          <a:blip r:embed="rId2"/>
          <a:srcRect l="0" t="0" r="67402" b="0"/>
          <a:stretch/>
        </p:blipFill>
        <p:spPr>
          <a:xfrm>
            <a:off x="0" y="0"/>
            <a:ext cx="3048120" cy="3191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arby"/>
          <p:cNvPicPr/>
          <p:nvPr/>
        </p:nvPicPr>
        <p:blipFill>
          <a:blip r:embed="rId3"/>
          <a:srcRect l="71118" t="0" r="0" b="0"/>
          <a:stretch/>
        </p:blipFill>
        <p:spPr>
          <a:xfrm>
            <a:off x="6781680" y="0"/>
            <a:ext cx="236232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Darby"/>
          <p:cNvPicPr/>
          <p:nvPr/>
        </p:nvPicPr>
        <p:blipFill>
          <a:blip r:embed="rId4"/>
          <a:stretch/>
        </p:blipFill>
        <p:spPr>
          <a:xfrm>
            <a:off x="3048120" y="990720"/>
            <a:ext cx="3733560" cy="10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09680" y="4876920"/>
            <a:ext cx="556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wind surfing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          January 11</a:t>
            </a:r>
            <a:r>
              <a:rPr b="0" lang="en-US" sz="1800" spc="-1" strike="noStrike" baseline="30000">
                <a:solidFill>
                  <a:srgbClr val="cccc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eb.mit.edu/invent/iow/darb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429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438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just love water sports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81680" y="0"/>
            <a:ext cx="0" cy="3200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48120" y="0"/>
            <a:ext cx="0" cy="3200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743200" y="3352680"/>
            <a:ext cx="3505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Invention: </a:t>
            </a:r>
            <a:r>
              <a:rPr b="0" lang="en-US" sz="4400" spc="-1" strike="noStrike">
                <a:solidFill>
                  <a:srgbClr val="ccccff"/>
                </a:solidFill>
                <a:latin typeface="Tahoma"/>
              </a:rPr>
              <a:t>wind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 surf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Windsurfing was invented i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Windsurfers were originally called sailboa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Many Europeans loved windsurfing, every 1 in 3 houses owned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Overall it actually took 4 people two invent it. (not that many when you think about it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Windsurfing has recently become an event in the Olympi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42483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Inventor: 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Newman</a:t>
            </a: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 Darb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t took Darby 8 years to make a windsurfer (that actually worked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Darby and his wife produced the “sailboards” in the 60’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t wasn’t until men named Drake and Hoyle came along that Darbys invention work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After Darby invented the windsurfer he went to work in a store that sold other water applian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Darby currently lives with his wife in Jacksonvi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2:48Z</dcterms:created>
  <dc:creator>install</dc:creator>
  <dc:description/>
  <dc:language>en-US</dc:language>
  <cp:lastModifiedBy>install</cp:lastModifiedBy>
  <dcterms:modified xsi:type="dcterms:W3CDTF">2011-01-14T17:12:28Z</dcterms:modified>
  <cp:revision>11</cp:revision>
  <dc:subject/>
  <dc:title>Slide 1</dc:title>
</cp:coreProperties>
</file>